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996B-2CEE-4D24-B310-39EC42D9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0F9-200A-42A0-8E78-AD7F3FD6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D9A-861C-454F-8B4E-167E6211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1DDC-0F80-410E-BB42-945CAB7E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8A32-1FA4-47FB-A8A8-25ED9DB7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8EB-3699-4D38-AF1E-E07023C6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C76-73F1-480E-8B7C-CE527C67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060-A960-40E9-A77B-26A67456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CF9-6C9C-4E29-95D8-D571604F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4C5A-C5C4-46ED-BCC6-3B48E1F4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AD48-4133-4A96-A97A-52237F99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4C12-5461-498B-9646-7D56178B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E237-C2E9-4271-BDA8-BB382E869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in%20título-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in%20título-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n%20título-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in%20título-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in%20título-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15:28:42Z</dcterms:created>
  <dc:creator>Grupo Editorial</dc:creator>
  <dc:description/>
  <dc:language>en-US</dc:language>
  <cp:lastModifiedBy>Grupo Editorial</cp:lastModifiedBy>
  <dcterms:modified xsi:type="dcterms:W3CDTF">2001-09-19T15:38:46Z</dcterms:modified>
  <cp:revision>1</cp:revision>
  <dc:subject/>
  <dc:title>Sin título de diapositiva</dc:title>
</cp:coreProperties>
</file>